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te Blood Ce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 or Acidophil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, numerous granu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clei with two lob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-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nd in lining of respiratory and digestive tra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rete anti-inflammatory substances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 or Acidophi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, numerous gran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i with tw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lining of respiratory and digestive 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unctions involve protections against infections caused by parasitic worms and involvement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 anti-inflammatory substances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st numerous--.5-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histamine,serotonin,heparin—inflammatory chem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numerous--.5-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histamine,serotonin,heparin—inflammatory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est WB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 nuclei/small amount of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ount for 2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W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nuclei/small amount of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 for 2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—T lymphocytes—attack an infect or cancerous cell, B lymphocytes—produce antibodies against specific antigens (foreign bod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st of WB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rk kidney bean shaped nucl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phagocyt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of WB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kidney bean shaped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phagocy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are also known as Leucocytes as they are colorless due to lack of Haemoglob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6000-8000mm of WBC for 1ml of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also called Scavengers &amp; Microscopic policem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orp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 Numb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tors look at WBC numb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number goes up there is some kind of infection and surgery might be need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ecrease in the number of white blood cells is leukopen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increase in the number of white blood cells is leukocyto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ors look at WBC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umber goes up there is some kind of infection and surgery might b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s will count the number of WBC’s in a blood sample, this is called differential 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crease in the number of white blood cells is leukop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crease in the number of white blood cells is leukocyt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mation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re formed in the red marrow of many bon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can also be formed in lymphatic tissu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live for about 13-20 day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re formed in the red marrow of many b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be formed in lymphatic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 for about 13-20 d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.RajaSekh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RajaSek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GUIIIT,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ve Typ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ed according to the presence or absence of granules and the staining characteristics of their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ppear brightly colored in stained preparations, they have a nuclei and are generally larger in size than RBC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—have larg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—have larg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s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—do not hav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—do not hav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t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in light purple with neutral d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es are small and numerous—course appear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ral lobes in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mobile/very a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agocytosis (eater), contain several lysosomes (janito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t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in light purple with neutral d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es are small and numerous—course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lobe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mobile/very 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gocytosis (eater), contain several lysosomes (jani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CE69-EC35-47EA-9D97-0D0E90CEA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05AE-ECE1-4413-8471-DE05171D6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7F94-BC39-4266-9B76-24FF86140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B19F-0730-4F91-8F76-77BCD3699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2D5E-7E6A-4397-98D0-A64BCF6CCF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6308-C514-4EDF-A25C-6C98F09FA8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5819-B8E5-46CE-9E55-EDF99FBD55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4034-1048-4374-B5A2-7475CC977F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D77A-28CF-4701-96EA-ADF62EDDFA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12F23-B035-4EBE-B6EC-6893D4B9AF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EA60-57E7-4410-A3ED-6BEA2AA38B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4EDD-070E-447F-907D-8A7AE773B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085EB-7CAA-4D29-9A31-0845106FC8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8CE8-8C32-4149-9D52-E2C71A9129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A720B-A908-48EC-927E-E338F99701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9F53-8766-4C7B-8F33-DDD67439FD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863A-D8F9-4834-8EE5-2B0E493D8E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C8BF-7670-4D1F-A377-734A5DE8E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1D55-C641-48D3-AE2B-E97ABB585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5013-94B5-4F26-A8CC-733CA1B70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EC96-E6F3-4A4D-98CA-BA5119319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01E2-4062-4EFF-9652-85A261710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6058-3951-4839-86FB-947928757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7DA8-A618-45D2-BB96-BF2EEDD4B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1162080" y="6240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E377D-605E-4FCD-B69C-3B090F9DE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990720" y="624528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D26A8-D10D-4466-A954-56EC47D19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990720" y="16765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ucocyte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te Blood Ce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95200" y="4114800"/>
            <a:ext cx="8620200" cy="685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715000" y="4435560"/>
            <a:ext cx="25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84700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44280" y="304920"/>
            <a:ext cx="3841920" cy="5867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886200" y="914400"/>
            <a:ext cx="434340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4664160" y="3827520"/>
            <a:ext cx="287964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286000" y="0"/>
            <a:ext cx="4782960" cy="65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80880" y="2017800"/>
            <a:ext cx="85741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osinophils or Acidophil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rge, numerous gran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uclei with two l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-5% of WBC cou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nd in lining of respiratory and digestive trac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rete anti-inflammatory substances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42130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numerous--.5-1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 histamine,serotonin,heparin—inflammatory chem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2"/>
          <p:cNvSpPr txBox="1"/>
          <p:nvPr/>
        </p:nvSpPr>
        <p:spPr>
          <a:xfrm>
            <a:off x="2743200" y="485640"/>
            <a:ext cx="47214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310"/>
                <a:gd name="adj2" fmla="val 4333"/>
              </a:avLst>
            </a:prstTxWarp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Times New Roman"/>
              </a:rPr>
              <a:t>Granulocy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924360" cy="3743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429000" y="8568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st W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nuclei/small amount of cytopla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 for 2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4738680" y="0"/>
            <a:ext cx="4405320" cy="487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04920" y="3838680"/>
            <a:ext cx="360972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st of WB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rk kidney bean shaped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phagocy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1468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28600" y="2286000"/>
            <a:ext cx="84582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SzPct val="102812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ite Blood cells are also known as Leucocytes as they are colorless due to lack of Haemoglob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are about 6000-8000mm of WBC for 1ml of blo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se are also called Scavengers &amp; Microscopic policeme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2286000" y="914400"/>
            <a:ext cx="5257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ahoma"/>
              </a:rPr>
              <a:t>White Blood Corpusc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tors look at WBC nu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umber goes up there is some kind of infection and surgery might be nee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crease in the number of white blood cells is leukop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crease in the number of white blood cells is leukocyto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ion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re formed in the red marrow of many b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also be formed in lymphatic tiss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live for about 13-20 d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"/>
          <p:cNvGrpSpPr/>
          <p:nvPr/>
        </p:nvGrpSpPr>
        <p:grpSpPr>
          <a:xfrm>
            <a:off x="1371600" y="228600"/>
            <a:ext cx="6399360" cy="6399360"/>
            <a:chOff x="1371600" y="228600"/>
            <a:chExt cx="6399360" cy="6399360"/>
          </a:xfrm>
        </p:grpSpPr>
        <p:pic>
          <p:nvPicPr>
            <p:cNvPr id="146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228600"/>
              <a:ext cx="6399360" cy="639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3"/>
            <p:cNvSpPr/>
            <p:nvPr/>
          </p:nvSpPr>
          <p:spPr>
            <a:xfrm>
              <a:off x="1371600" y="228600"/>
              <a:ext cx="6399360" cy="639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WordArt 1" descr=""/>
          <p:cNvPicPr/>
          <p:nvPr/>
        </p:nvPicPr>
        <p:blipFill>
          <a:blip r:embed="rId1"/>
          <a:stretch/>
        </p:blipFill>
        <p:spPr>
          <a:xfrm>
            <a:off x="4346640" y="3651120"/>
            <a:ext cx="3882960" cy="2341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"/>
          <p:cNvSpPr/>
          <p:nvPr/>
        </p:nvSpPr>
        <p:spPr>
          <a:xfrm>
            <a:off x="685800" y="22860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0" y="594360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ve Typ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61920" y="2286000"/>
            <a:ext cx="90820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11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Granulocytes—have large granules in their cytoplasm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osin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424400" cy="6224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2641680"/>
            <a:ext cx="4419720" cy="42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102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ahoma"/>
              </a:rPr>
              <a:t>Agranulocytes—do not have granules in their cytoplasm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ty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5666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in light purple with neutral d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es are small and numerous—course appea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lobes in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mobile/very 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gocytosis (eater), contain several lysosomes (janit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6:31:14Z</dcterms:created>
  <dc:creator>HS Room 33</dc:creator>
  <dc:description/>
  <dc:language>en-US</dc:language>
  <cp:lastModifiedBy>RomaK</cp:lastModifiedBy>
  <dcterms:modified xsi:type="dcterms:W3CDTF">2015-09-04T10:58:52Z</dcterms:modified>
  <cp:revision>10</cp:revision>
  <dc:subject/>
  <dc:title>Leukocytes White Blood Cells</dc:title>
</cp:coreProperties>
</file>